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EA77-E9A5-4469-B133-87BA582DB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E7B6-7162-46D8-A5DC-4933FDA8C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4369-46E2-45C0-9881-D9161CFEF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C1CE-1EE3-4EE1-BA86-D9ACE7FDF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010FE5-CD2F-4DD3-BCAB-D06820C9A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B51652-A079-4D98-B2B1-E71D6666A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2B56CC-447C-42E3-B9BA-3784E205C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8E728D-3E13-4DEA-89EF-8CB26014A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FD2D33-02D2-459E-955A-64B029F56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9EE964-679E-48AA-833E-BF987B242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291169-845E-4AB6-B6A9-96047900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86D2-6249-47DE-93BB-434BC3941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221611-5033-4999-9FDE-5E51D3CD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E8092D-0C2D-4412-8330-27CD137A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DACA48-7CA5-4577-B259-689C8F2F0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2A9A73-7FA6-4884-A7B9-8DB451C81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377626-0DAA-4F6F-8F21-50F36379A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DB79-8303-4B5E-90DA-47CF4571E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7590-42D1-4EC6-A05C-E0A147BD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655F-FFAC-4894-9A07-7775C0BC4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A37B-BDE3-4BF3-9B65-132C40A8F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F87C-4177-49F7-BA4B-00ACAD09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40C7-1A9B-4A62-AE88-4661EA20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7056-250A-49B5-80D5-60E66FBA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22177-6494-40AE-94AC-B1E2707258C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69942-D304-4E2E-A575-1F8772D04D9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0kFaxNkbt2Y&amp;feature=related" TargetMode="External"/><Relationship Id="rId2" Type="http://schemas.openxmlformats.org/officeDocument/2006/relationships/hyperlink" Target="http://www.youtube.com/watch?v=0kFaxNkbt2Y&amp;feature=related" TargetMode="External"/><Relationship Id="rId3" Type="http://schemas.openxmlformats.org/officeDocument/2006/relationships/hyperlink" Target="http://www.youtube.com/watch?v=0kFaxNkbt2Y&amp;feature=related" TargetMode="External"/><Relationship Id="rId4" Type="http://schemas.openxmlformats.org/officeDocument/2006/relationships/hyperlink" Target="http://www.youtube.com/watch?v=D2dYNLwtRkc&amp;feature=related" TargetMode="External"/><Relationship Id="rId5" Type="http://schemas.openxmlformats.org/officeDocument/2006/relationships/hyperlink" Target="http://www.youtube.com/watch?v=D2dYNLwtRkc&amp;feature=related" TargetMode="External"/><Relationship Id="rId6" Type="http://schemas.openxmlformats.org/officeDocument/2006/relationships/hyperlink" Target="http://www.youtube.com/watch?v=D2dYNLwtRkc&amp;feature=related" TargetMode="External"/><Relationship Id="rId7" Type="http://schemas.openxmlformats.org/officeDocument/2006/relationships/hyperlink" Target="http://www.youtube.com/watch?v=9z4N7-yourw&amp;feature=related" TargetMode="External"/><Relationship Id="rId8" Type="http://schemas.openxmlformats.org/officeDocument/2006/relationships/hyperlink" Target="http://www.youtube.com/watch?v=9z4N7-yourw&amp;feature=related" TargetMode="External"/><Relationship Id="rId9" Type="http://schemas.openxmlformats.org/officeDocument/2006/relationships/hyperlink" Target="http://www.youtube.com/watch?v=9z4N7-yourw&amp;feature=related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anadian Seal Hun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Nathan 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17524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orks Cite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"About the Canadian Seal Hunt."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Humane Soceity of the United Stat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HSUS, n.d. Web. 16 Feb. 2010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[code]] &lt;http://www.hsus.org/marine_mammals/protect_seals/about_the_canadian_seal_hunt/&gt;. //The Canadian Seal Hunt//. Humane Soceity of the United States, 2007. Web. 23 Feb. 2010. &lt;http://www.canadiansealhunt.com/organizations.html&gt;. "Six Facts of the Canadian Seal Hunt." //Canada International//. Her Majesty the Queen in Right of Canada, n.d. Web. 21 Feb. 2010. &lt;http://www.canadainternational.gc.ca/austria-autriche/ assets/pdfs/Seal_hunt_17jan05-e.pdf&gt;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181480" y="228600"/>
            <a:ext cx="365760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Hun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seal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l hunting Is the personal or commercial hunt of se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tarted with Native Americans hunting for se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was a kind of right to manho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day it has evolved into a massive industry with a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uge commercial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343400" y="4479840"/>
            <a:ext cx="396252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y it happe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ur is considered very valuable because of its warmth and its resistance to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ically sold to European mar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anadian Sealing industry rakes an annual income of about 16.5 million dolla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eal meat is sold to the Asian markets and the oil is taken as a fish oil suppl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nimal Rights Claim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 though Canada is not the only country that participates in the Sealing industry it is the most famous due to the constant animal rights protes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imal Right Protesters think the hakapik is inhumane and doesn’t always kill the anima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could resulting in the hunter skinning the seal ali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ntrovers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every part of the seal is Utiliz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of the upset for Seal Hunting is that hunters will kill specifically for the fur and will throw away the mea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obal Warming may threaten lifestyle of the Sea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eath statistics of the hunt do not include the seals that have been injured by hunters but got away. Only to die l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Hakapik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ically a clu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per method is to hit the seal directly on the forehe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process will crush the skull and supposedly kill it instant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791320" y="3962520"/>
            <a:ext cx="297180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Protester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humane Society international is the chief protestor of the Canadian Seal hu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mascot is a young white seal known as a white coat… Even though they are illegal to kill at such a young 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SI calls for a boycott of all Canadian seafood… Unfortunately the Asian and American markets won’t particip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400800" y="0"/>
            <a:ext cx="2743200" cy="17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elebrity Atten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 though Harp Seals are not an endangered species and their population is constantly monitored by the gover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celebrities varying from Paul McCartney and Paris Hilton have done concerts to speak out against the seal hu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fortunately Canadian Seal Hunters don’t ca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inks!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=0kFaxNkbt2Y&amp;feature=related</a:t>
            </a:r>
            <a:br>
              <a:rPr sz="3200"/>
            </a:b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5"/>
              </a:rPr>
              <a:t>www.youtube.com/watch?v</a:t>
            </a: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6"/>
              </a:rPr>
              <a:t>=D2dYNLwtRkc&amp;feature=related</a:t>
            </a:r>
            <a:br>
              <a:rPr sz="3200"/>
            </a:b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7"/>
              </a:rPr>
              <a:t>http://</a:t>
            </a: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8"/>
              </a:rPr>
              <a:t>www.youtube.com/watch?v</a:t>
            </a: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9"/>
              </a:rPr>
              <a:t>=9z4N7-yourw&amp;feature=relat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8:54:07Z</dcterms:created>
  <dc:creator>SASD</dc:creator>
  <dc:description/>
  <dc:language>en-US</dc:language>
  <cp:lastModifiedBy>SASD</cp:lastModifiedBy>
  <dcterms:modified xsi:type="dcterms:W3CDTF">2010-03-03T14:56:32Z</dcterms:modified>
  <cp:revision>8</cp:revision>
  <dc:subject/>
  <dc:title>Canadian Seal Hunt</dc:title>
</cp:coreProperties>
</file>